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37D72C-F85B-4489-B4FC-2DFCF3E0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A42981-48B2-4C38-BA84-9BE0B6CF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2880" y="4330440"/>
            <a:ext cx="5048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avidmays.org   web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C helps churches in missions.  See the partnership fl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(1 per chu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o make this material into a resource available on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wants (vs. some particular agenda of 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God want done IN THE WORL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belongs to OUR CHU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my life, I must understand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our church’s missions ministry, know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solidFill>
            <a:srgbClr val="3366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Developing a Missions Strategy That Fits Your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33526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avidmays.org/guide.pdf" TargetMode="External"/><Relationship Id="rId3" Type="http://schemas.openxmlformats.org/officeDocument/2006/relationships/hyperlink" Target="mailto:dmays@TheMissionExchange.org" TargetMode="External"/><Relationship Id="rId4" Type="http://schemas.openxmlformats.org/officeDocument/2006/relationships/hyperlink" Target="http://www.davidmays.org/Consultations.html" TargetMode="External"/><Relationship Id="rId5" Type="http://schemas.openxmlformats.org/officeDocument/2006/relationships/hyperlink" Target="http://www.davidmays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missionexchange.org/" TargetMode="External"/><Relationship Id="rId3" Type="http://schemas.openxmlformats.org/officeDocument/2006/relationships/hyperlink" Target="http://www.davidmays.org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4286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Developing a Missions Strateg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That Fits Your Church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hop or Consultation Gu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resource tool on CD is available to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 – What is the goa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ssions – What is mission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Church’s Purpose – What is your church miss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World – What are the great challeng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e the foundations for your missions strateg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ences – Whom do you seek to reach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 Tasks – What most needs to be don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lance – How much local?  How much global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– A beacon or a thousand points of ligh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 – Do you need gradual or radical chang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onships – Do you support only those you know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r Roles – What ministries best fit your congregation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nerships – Is it important to partner with other group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tion – Do your members have to help hands 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elect which of these Inputs are important to your church and should become part of your strateg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mponents of the Strategy C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er’s Guide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nt Workboo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lemental Doc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iptures and missions defini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dgeting and funding factors and gr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rpose, vision, and values samples an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vey for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articles and additional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903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God wants your missions ministry to be effective.  He will gladly provide direction as you seek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More 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e the Strategy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 $35 to David Mays, 7589 Burns Drive, Brownsburg, IN 4611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e the Leader’s Guid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davidmays.org/guide.pd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a workshop or consul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ail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dmays@TheMissionExchange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317-852-0348 (h/o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s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4"/>
              </a:rPr>
              <a:t>http://www.davidmays.org/Consultations.htm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missions resourc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5"/>
              </a:rPr>
              <a:t>www.davidmays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knowledgement: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workshop format and key fa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re adapted from Blake McDaniel, ACM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avid May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6934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vid Mays is Director of Learning Initiativ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ission Exchange.  The Mission Exchange empowers the global missions community through training and partnerships.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TheMissionExchange.or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: Training, resources, and networking in world evangeli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eam: A movement of churches centered on The Great Commi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www.davidmays.or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1047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82844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Is your missions ministry global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Or just all over the ma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Every church needs a missions strateg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resource will guide you through a process to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berat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ll-reason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al-focused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urch-specific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-bas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d-honorin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ssions strategy for your church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2057400"/>
            <a:ext cx="7086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describes how you will get som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strategy helps you reach a destination or a go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 does God want you to go?  That 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does God want to accomplish in the world through our chu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e Key Question is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9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Your strategy is your roadm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Developing a strategy is straightforwar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But it’s not eas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t the right people together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 your re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idify your found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fy what God desires for your chu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ree on your prioriti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 to work toward the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evelop Your Missions Strategy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it on your ow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the “Strategy CD.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tilize an outside consulta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Strategy Development Component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resource addresses three major pieces of a strate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develop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What goes in it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follow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3:14:53Z</dcterms:created>
  <dc:creator> </dc:creator>
  <dc:description/>
  <cp:keywords/>
  <dc:language>en-US</dc:language>
  <cp:lastModifiedBy> </cp:lastModifiedBy>
  <dcterms:modified xsi:type="dcterms:W3CDTF">2009-12-11T16:36:43Z</dcterms:modified>
  <cp:revision>499</cp:revision>
  <dc:subject/>
  <dc:title>Developing a Mission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